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4D0-4299-41A4-A525-0C6FBE25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0BA-6DF1-4D24-8112-985615B5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3D3-4EFB-4C85-B397-00628104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59F-668C-4FD7-A7FD-F0CA787D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8A2-053A-44D2-B529-C1669C6A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D5B-366D-48EA-A8C6-ADC67BBC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55E-EA7D-4C54-8BB5-2BFC77DE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2D2-23BF-4A30-9258-2B1DF50C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16B-3B07-4026-B888-0DBB1DE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494-2E11-4823-A5CE-14CD2EC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E31-677B-4867-A5B5-1FBBC258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924-91D1-4F45-B1BD-C8C21D03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807-4CA5-4969-8E5A-D8EBA82C0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9:37:47Z</dcterms:created>
  <dc:creator>STERLING  USD376</dc:creator>
  <dc:description/>
  <dc:language>en-US</dc:language>
  <cp:lastModifiedBy>STERLING  USD376</cp:lastModifiedBy>
  <dcterms:modified xsi:type="dcterms:W3CDTF">2009-09-03T19:38:20Z</dcterms:modified>
  <cp:revision>1</cp:revision>
  <dc:subject/>
  <dc:title>PowerPoint Presentation</dc:title>
</cp:coreProperties>
</file>